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gif" ContentType="image/gif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1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2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3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8DF3-1741-41BE-AC75-830B7634F7D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670C-7B29-4E2B-8ED7-C95310E130E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3B7B-5DEB-4FD9-8740-17B03EC953B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0944-CB17-4B64-92E9-8638EBB11A2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C05A-D76A-4904-9217-E0FB293B1B2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C37F-4166-4446-A332-28E9D336ABC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14BE-3163-43EB-968A-9D6DFA6C662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2E4F-8F52-4FE8-BCC2-163F7DA52F8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9413-A8F7-401B-8D5D-31ACA6FED5F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277B-71C9-4A51-9EFD-19001215232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ABDA-5848-4146-AAE2-056B4CF2A1E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30BA-7269-4937-B1A2-BC1EA96D9A3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44E8-0F62-467B-8F9E-46B144EA9A4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918C-37B2-403C-B208-B189BBBE65F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B947-1B9C-43DE-9561-C01BB86788E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FF3C-185B-44BA-AF9F-2FFC5F15C4E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F607-5A38-4B0A-9E88-F52FA2AE36F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5BF4-6D19-4BD6-951E-F4AC1F11138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3D51-A943-482C-BD83-8CB3E477AD1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8B12-A4F9-410E-9C9A-DC4222D6F8C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A430-9FD2-4EF0-83E5-98DC42DCFB4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2470-13CE-4010-BE50-5B96EACFD66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2590-1C6F-4F42-83E6-E00354CFA9A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6491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82803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000" y="3556440"/>
            <a:ext cx="82803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6491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4040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960" y="1412640"/>
            <a:ext cx="4040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000" y="3556440"/>
            <a:ext cx="4040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6960" y="3556440"/>
            <a:ext cx="4040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6491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26661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83720" y="1412640"/>
            <a:ext cx="26661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83800" y="1412640"/>
            <a:ext cx="26661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000" y="3556440"/>
            <a:ext cx="26661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83720" y="3556440"/>
            <a:ext cx="26661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83800" y="3556440"/>
            <a:ext cx="26661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6491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4000" y="141264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6491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6491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4040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6960" y="1412640"/>
            <a:ext cx="4040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6491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-360" y="549000"/>
            <a:ext cx="649116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6491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4040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6960" y="1412640"/>
            <a:ext cx="4040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556440"/>
            <a:ext cx="4040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6491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000" y="141264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6491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4040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6960" y="1412640"/>
            <a:ext cx="4040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26960" y="3556440"/>
            <a:ext cx="4040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6491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4040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6960" y="1412640"/>
            <a:ext cx="4040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4000" y="3556440"/>
            <a:ext cx="82803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6491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82803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4000" y="3556440"/>
            <a:ext cx="82803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6491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4040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960" y="1412640"/>
            <a:ext cx="4040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4000" y="3556440"/>
            <a:ext cx="4040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26960" y="3556440"/>
            <a:ext cx="4040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6491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26661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83720" y="1412640"/>
            <a:ext cx="26661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83800" y="1412640"/>
            <a:ext cx="26661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4000" y="3556440"/>
            <a:ext cx="26661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83720" y="3556440"/>
            <a:ext cx="26661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283800" y="3556440"/>
            <a:ext cx="26661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6491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6491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4040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6960" y="1412640"/>
            <a:ext cx="4040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6491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-360" y="549000"/>
            <a:ext cx="649116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6491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4040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6960" y="1412640"/>
            <a:ext cx="4040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000" y="3556440"/>
            <a:ext cx="4040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6491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4040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6960" y="1412640"/>
            <a:ext cx="4040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6960" y="3556440"/>
            <a:ext cx="4040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6491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4040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960" y="1412640"/>
            <a:ext cx="4040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000" y="3556440"/>
            <a:ext cx="82803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4"/>
          <p:cNvSpPr/>
          <p:nvPr/>
        </p:nvSpPr>
        <p:spPr>
          <a:xfrm>
            <a:off x="539640" y="0"/>
            <a:ext cx="8604360" cy="1700280"/>
          </a:xfrm>
          <a:custGeom>
            <a:avLst/>
            <a:gdLst>
              <a:gd name="textAreaLeft" fmla="*/ 0 w 8604360"/>
              <a:gd name="textAreaRight" fmla="*/ 8604720 w 8604360"/>
              <a:gd name="textAreaTop" fmla="*/ 0 h 1700280"/>
              <a:gd name="textAreaBottom" fmla="*/ 1700640 h 1700280"/>
            </a:gdLst>
            <a:ahLst/>
            <a:rect l="textAreaLeft" t="textAreaTop" r="textAreaRight" b="textAreaBottom"/>
            <a:pathLst>
              <a:path w="1760" h="546">
                <a:moveTo>
                  <a:pt x="0" y="0"/>
                </a:moveTo>
                <a:lnTo>
                  <a:pt x="1760" y="1"/>
                </a:lnTo>
                <a:lnTo>
                  <a:pt x="1759" y="546"/>
                </a:lnTo>
                <a:lnTo>
                  <a:pt x="1746" y="536"/>
                </a:lnTo>
                <a:lnTo>
                  <a:pt x="1734" y="526"/>
                </a:lnTo>
                <a:lnTo>
                  <a:pt x="1718" y="512"/>
                </a:lnTo>
                <a:lnTo>
                  <a:pt x="1701" y="500"/>
                </a:lnTo>
                <a:lnTo>
                  <a:pt x="1684" y="489"/>
                </a:lnTo>
                <a:lnTo>
                  <a:pt x="1667" y="476"/>
                </a:lnTo>
                <a:lnTo>
                  <a:pt x="1648" y="464"/>
                </a:lnTo>
                <a:lnTo>
                  <a:pt x="1625" y="450"/>
                </a:lnTo>
                <a:lnTo>
                  <a:pt x="1611" y="440"/>
                </a:lnTo>
                <a:lnTo>
                  <a:pt x="1592" y="428"/>
                </a:lnTo>
                <a:lnTo>
                  <a:pt x="1564" y="412"/>
                </a:lnTo>
                <a:lnTo>
                  <a:pt x="1544" y="399"/>
                </a:lnTo>
                <a:lnTo>
                  <a:pt x="1518" y="386"/>
                </a:lnTo>
                <a:lnTo>
                  <a:pt x="1496" y="374"/>
                </a:lnTo>
                <a:lnTo>
                  <a:pt x="1472" y="361"/>
                </a:lnTo>
                <a:lnTo>
                  <a:pt x="1450" y="351"/>
                </a:lnTo>
                <a:lnTo>
                  <a:pt x="1429" y="339"/>
                </a:lnTo>
                <a:lnTo>
                  <a:pt x="1404" y="329"/>
                </a:lnTo>
                <a:lnTo>
                  <a:pt x="1387" y="322"/>
                </a:lnTo>
                <a:lnTo>
                  <a:pt x="1368" y="312"/>
                </a:lnTo>
                <a:lnTo>
                  <a:pt x="1350" y="305"/>
                </a:lnTo>
                <a:lnTo>
                  <a:pt x="1331" y="297"/>
                </a:lnTo>
                <a:lnTo>
                  <a:pt x="1307" y="287"/>
                </a:lnTo>
                <a:lnTo>
                  <a:pt x="1284" y="279"/>
                </a:lnTo>
                <a:lnTo>
                  <a:pt x="1262" y="270"/>
                </a:lnTo>
                <a:lnTo>
                  <a:pt x="1228" y="258"/>
                </a:lnTo>
                <a:lnTo>
                  <a:pt x="1193" y="246"/>
                </a:lnTo>
                <a:lnTo>
                  <a:pt x="1161" y="234"/>
                </a:lnTo>
                <a:lnTo>
                  <a:pt x="1130" y="224"/>
                </a:lnTo>
                <a:lnTo>
                  <a:pt x="1080" y="209"/>
                </a:lnTo>
                <a:lnTo>
                  <a:pt x="1059" y="202"/>
                </a:lnTo>
                <a:lnTo>
                  <a:pt x="1029" y="193"/>
                </a:lnTo>
                <a:lnTo>
                  <a:pt x="996" y="184"/>
                </a:lnTo>
                <a:lnTo>
                  <a:pt x="969" y="177"/>
                </a:lnTo>
                <a:lnTo>
                  <a:pt x="943" y="170"/>
                </a:lnTo>
                <a:lnTo>
                  <a:pt x="921" y="164"/>
                </a:lnTo>
                <a:lnTo>
                  <a:pt x="895" y="158"/>
                </a:lnTo>
                <a:lnTo>
                  <a:pt x="871" y="153"/>
                </a:lnTo>
                <a:lnTo>
                  <a:pt x="844" y="145"/>
                </a:lnTo>
                <a:lnTo>
                  <a:pt x="815" y="138"/>
                </a:lnTo>
                <a:lnTo>
                  <a:pt x="780" y="129"/>
                </a:lnTo>
                <a:lnTo>
                  <a:pt x="746" y="122"/>
                </a:lnTo>
                <a:lnTo>
                  <a:pt x="717" y="116"/>
                </a:lnTo>
                <a:lnTo>
                  <a:pt x="677" y="107"/>
                </a:lnTo>
                <a:lnTo>
                  <a:pt x="641" y="100"/>
                </a:lnTo>
                <a:lnTo>
                  <a:pt x="609" y="92"/>
                </a:lnTo>
                <a:lnTo>
                  <a:pt x="577" y="86"/>
                </a:lnTo>
                <a:lnTo>
                  <a:pt x="538" y="78"/>
                </a:lnTo>
                <a:lnTo>
                  <a:pt x="493" y="70"/>
                </a:lnTo>
                <a:lnTo>
                  <a:pt x="460" y="65"/>
                </a:lnTo>
                <a:lnTo>
                  <a:pt x="424" y="58"/>
                </a:lnTo>
                <a:lnTo>
                  <a:pt x="391" y="51"/>
                </a:lnTo>
                <a:lnTo>
                  <a:pt x="363" y="47"/>
                </a:lnTo>
                <a:lnTo>
                  <a:pt x="332" y="42"/>
                </a:lnTo>
                <a:lnTo>
                  <a:pt x="290" y="35"/>
                </a:lnTo>
                <a:lnTo>
                  <a:pt x="262" y="31"/>
                </a:lnTo>
                <a:lnTo>
                  <a:pt x="229" y="26"/>
                </a:lnTo>
                <a:lnTo>
                  <a:pt x="193" y="21"/>
                </a:lnTo>
                <a:lnTo>
                  <a:pt x="170" y="17"/>
                </a:lnTo>
                <a:lnTo>
                  <a:pt x="138" y="14"/>
                </a:lnTo>
                <a:lnTo>
                  <a:pt x="111" y="11"/>
                </a:lnTo>
                <a:lnTo>
                  <a:pt x="79" y="8"/>
                </a:lnTo>
                <a:lnTo>
                  <a:pt x="49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5"/>
          <p:cNvSpPr/>
          <p:nvPr/>
        </p:nvSpPr>
        <p:spPr>
          <a:xfrm rot="10800000">
            <a:off x="2773440" y="-360"/>
            <a:ext cx="6370560" cy="1413000"/>
          </a:xfrm>
          <a:custGeom>
            <a:avLst/>
            <a:gdLst>
              <a:gd name="textAreaLeft" fmla="*/ 0 w 6370560"/>
              <a:gd name="textAreaRight" fmla="*/ 6370920 w 6370560"/>
              <a:gd name="textAreaTop" fmla="*/ 0 h 1413000"/>
              <a:gd name="textAreaBottom" fmla="*/ 1413360 h 1413000"/>
            </a:gdLst>
            <a:ahLst/>
            <a:rect l="textAreaLeft" t="textAreaTop" r="textAreaRight" b="textAreaBottom"/>
            <a:pathLst>
              <a:path w="1760" h="546">
                <a:moveTo>
                  <a:pt x="1760" y="546"/>
                </a:moveTo>
                <a:lnTo>
                  <a:pt x="0" y="545"/>
                </a:lnTo>
                <a:lnTo>
                  <a:pt x="1" y="0"/>
                </a:lnTo>
                <a:lnTo>
                  <a:pt x="14" y="10"/>
                </a:lnTo>
                <a:lnTo>
                  <a:pt x="27" y="19"/>
                </a:lnTo>
                <a:lnTo>
                  <a:pt x="42" y="34"/>
                </a:lnTo>
                <a:lnTo>
                  <a:pt x="60" y="46"/>
                </a:lnTo>
                <a:lnTo>
                  <a:pt x="76" y="57"/>
                </a:lnTo>
                <a:lnTo>
                  <a:pt x="93" y="70"/>
                </a:lnTo>
                <a:lnTo>
                  <a:pt x="112" y="82"/>
                </a:lnTo>
                <a:lnTo>
                  <a:pt x="135" y="96"/>
                </a:lnTo>
                <a:lnTo>
                  <a:pt x="150" y="106"/>
                </a:lnTo>
                <a:lnTo>
                  <a:pt x="168" y="118"/>
                </a:lnTo>
                <a:lnTo>
                  <a:pt x="196" y="135"/>
                </a:lnTo>
                <a:lnTo>
                  <a:pt x="216" y="147"/>
                </a:lnTo>
                <a:lnTo>
                  <a:pt x="242" y="161"/>
                </a:lnTo>
                <a:lnTo>
                  <a:pt x="264" y="172"/>
                </a:lnTo>
                <a:lnTo>
                  <a:pt x="288" y="185"/>
                </a:lnTo>
                <a:lnTo>
                  <a:pt x="310" y="196"/>
                </a:lnTo>
                <a:lnTo>
                  <a:pt x="331" y="207"/>
                </a:lnTo>
                <a:lnTo>
                  <a:pt x="357" y="217"/>
                </a:lnTo>
                <a:lnTo>
                  <a:pt x="374" y="224"/>
                </a:lnTo>
                <a:lnTo>
                  <a:pt x="393" y="234"/>
                </a:lnTo>
                <a:lnTo>
                  <a:pt x="410" y="241"/>
                </a:lnTo>
                <a:lnTo>
                  <a:pt x="430" y="249"/>
                </a:lnTo>
                <a:lnTo>
                  <a:pt x="453" y="259"/>
                </a:lnTo>
                <a:lnTo>
                  <a:pt x="476" y="267"/>
                </a:lnTo>
                <a:lnTo>
                  <a:pt x="498" y="276"/>
                </a:lnTo>
                <a:lnTo>
                  <a:pt x="532" y="288"/>
                </a:lnTo>
                <a:lnTo>
                  <a:pt x="567" y="300"/>
                </a:lnTo>
                <a:lnTo>
                  <a:pt x="599" y="312"/>
                </a:lnTo>
                <a:lnTo>
                  <a:pt x="630" y="322"/>
                </a:lnTo>
                <a:lnTo>
                  <a:pt x="681" y="337"/>
                </a:lnTo>
                <a:lnTo>
                  <a:pt x="702" y="344"/>
                </a:lnTo>
                <a:lnTo>
                  <a:pt x="732" y="353"/>
                </a:lnTo>
                <a:lnTo>
                  <a:pt x="764" y="362"/>
                </a:lnTo>
                <a:lnTo>
                  <a:pt x="791" y="369"/>
                </a:lnTo>
                <a:lnTo>
                  <a:pt x="818" y="376"/>
                </a:lnTo>
                <a:lnTo>
                  <a:pt x="840" y="381"/>
                </a:lnTo>
                <a:lnTo>
                  <a:pt x="865" y="388"/>
                </a:lnTo>
                <a:lnTo>
                  <a:pt x="889" y="394"/>
                </a:lnTo>
                <a:lnTo>
                  <a:pt x="916" y="400"/>
                </a:lnTo>
                <a:lnTo>
                  <a:pt x="946" y="408"/>
                </a:lnTo>
                <a:lnTo>
                  <a:pt x="980" y="417"/>
                </a:lnTo>
                <a:lnTo>
                  <a:pt x="1014" y="424"/>
                </a:lnTo>
                <a:lnTo>
                  <a:pt x="1043" y="430"/>
                </a:lnTo>
                <a:lnTo>
                  <a:pt x="1084" y="438"/>
                </a:lnTo>
                <a:lnTo>
                  <a:pt x="1120" y="446"/>
                </a:lnTo>
                <a:lnTo>
                  <a:pt x="1151" y="454"/>
                </a:lnTo>
                <a:lnTo>
                  <a:pt x="1183" y="460"/>
                </a:lnTo>
                <a:lnTo>
                  <a:pt x="1222" y="468"/>
                </a:lnTo>
                <a:lnTo>
                  <a:pt x="1268" y="477"/>
                </a:lnTo>
                <a:lnTo>
                  <a:pt x="1300" y="481"/>
                </a:lnTo>
                <a:lnTo>
                  <a:pt x="1336" y="488"/>
                </a:lnTo>
                <a:lnTo>
                  <a:pt x="1370" y="495"/>
                </a:lnTo>
                <a:lnTo>
                  <a:pt x="1397" y="499"/>
                </a:lnTo>
                <a:lnTo>
                  <a:pt x="1429" y="504"/>
                </a:lnTo>
                <a:lnTo>
                  <a:pt x="1470" y="511"/>
                </a:lnTo>
                <a:lnTo>
                  <a:pt x="1499" y="515"/>
                </a:lnTo>
                <a:lnTo>
                  <a:pt x="1531" y="520"/>
                </a:lnTo>
                <a:lnTo>
                  <a:pt x="1567" y="525"/>
                </a:lnTo>
                <a:lnTo>
                  <a:pt x="1591" y="528"/>
                </a:lnTo>
                <a:lnTo>
                  <a:pt x="1622" y="532"/>
                </a:lnTo>
                <a:lnTo>
                  <a:pt x="1649" y="535"/>
                </a:lnTo>
                <a:lnTo>
                  <a:pt x="1681" y="538"/>
                </a:lnTo>
                <a:lnTo>
                  <a:pt x="1711" y="542"/>
                </a:lnTo>
                <a:lnTo>
                  <a:pt x="1760" y="546"/>
                </a:lnTo>
                <a:lnTo>
                  <a:pt x="1760" y="546"/>
                </a:lnTo>
                <a:close/>
              </a:path>
            </a:pathLst>
          </a:custGeom>
          <a:solidFill>
            <a:srgbClr val="00b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5364000" y="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yong Shire Counc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flower"/>
          <p:cNvPicPr/>
          <p:nvPr/>
        </p:nvPicPr>
        <p:blipFill>
          <a:blip r:embed="rId4"/>
          <a:stretch/>
        </p:blipFill>
        <p:spPr>
          <a:xfrm>
            <a:off x="8242200" y="0"/>
            <a:ext cx="901800" cy="907920"/>
          </a:xfrm>
          <a:prstGeom prst="rect">
            <a:avLst/>
          </a:prstGeom>
          <a:ln w="0">
            <a:noFill/>
          </a:ln>
        </p:spPr>
      </p:pic>
      <p:sp>
        <p:nvSpPr>
          <p:cNvPr id="7" name="Freeform 8"/>
          <p:cNvSpPr/>
          <p:nvPr/>
        </p:nvSpPr>
        <p:spPr>
          <a:xfrm rot="10800000">
            <a:off x="0" y="5300280"/>
            <a:ext cx="9144000" cy="155736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57360"/>
              <a:gd name="textAreaBottom" fmla="*/ 1557720 h 1557360"/>
            </a:gdLst>
            <a:ahLst/>
            <a:rect l="textAreaLeft" t="textAreaTop" r="textAreaRight" b="textAreaBottom"/>
            <a:pathLst>
              <a:path w="1760" h="546">
                <a:moveTo>
                  <a:pt x="0" y="0"/>
                </a:moveTo>
                <a:lnTo>
                  <a:pt x="1760" y="1"/>
                </a:lnTo>
                <a:lnTo>
                  <a:pt x="1759" y="546"/>
                </a:lnTo>
                <a:lnTo>
                  <a:pt x="1746" y="536"/>
                </a:lnTo>
                <a:lnTo>
                  <a:pt x="1734" y="526"/>
                </a:lnTo>
                <a:lnTo>
                  <a:pt x="1718" y="512"/>
                </a:lnTo>
                <a:lnTo>
                  <a:pt x="1701" y="500"/>
                </a:lnTo>
                <a:lnTo>
                  <a:pt x="1684" y="489"/>
                </a:lnTo>
                <a:lnTo>
                  <a:pt x="1667" y="476"/>
                </a:lnTo>
                <a:lnTo>
                  <a:pt x="1648" y="464"/>
                </a:lnTo>
                <a:lnTo>
                  <a:pt x="1625" y="450"/>
                </a:lnTo>
                <a:lnTo>
                  <a:pt x="1611" y="440"/>
                </a:lnTo>
                <a:lnTo>
                  <a:pt x="1592" y="428"/>
                </a:lnTo>
                <a:lnTo>
                  <a:pt x="1564" y="412"/>
                </a:lnTo>
                <a:lnTo>
                  <a:pt x="1544" y="399"/>
                </a:lnTo>
                <a:lnTo>
                  <a:pt x="1518" y="386"/>
                </a:lnTo>
                <a:lnTo>
                  <a:pt x="1496" y="374"/>
                </a:lnTo>
                <a:lnTo>
                  <a:pt x="1472" y="361"/>
                </a:lnTo>
                <a:lnTo>
                  <a:pt x="1450" y="351"/>
                </a:lnTo>
                <a:lnTo>
                  <a:pt x="1429" y="339"/>
                </a:lnTo>
                <a:lnTo>
                  <a:pt x="1404" y="329"/>
                </a:lnTo>
                <a:lnTo>
                  <a:pt x="1387" y="322"/>
                </a:lnTo>
                <a:lnTo>
                  <a:pt x="1368" y="312"/>
                </a:lnTo>
                <a:lnTo>
                  <a:pt x="1350" y="305"/>
                </a:lnTo>
                <a:lnTo>
                  <a:pt x="1331" y="297"/>
                </a:lnTo>
                <a:lnTo>
                  <a:pt x="1307" y="287"/>
                </a:lnTo>
                <a:lnTo>
                  <a:pt x="1284" y="279"/>
                </a:lnTo>
                <a:lnTo>
                  <a:pt x="1262" y="270"/>
                </a:lnTo>
                <a:lnTo>
                  <a:pt x="1228" y="258"/>
                </a:lnTo>
                <a:lnTo>
                  <a:pt x="1193" y="246"/>
                </a:lnTo>
                <a:lnTo>
                  <a:pt x="1161" y="234"/>
                </a:lnTo>
                <a:lnTo>
                  <a:pt x="1130" y="224"/>
                </a:lnTo>
                <a:lnTo>
                  <a:pt x="1080" y="209"/>
                </a:lnTo>
                <a:lnTo>
                  <a:pt x="1059" y="202"/>
                </a:lnTo>
                <a:lnTo>
                  <a:pt x="1029" y="193"/>
                </a:lnTo>
                <a:lnTo>
                  <a:pt x="996" y="184"/>
                </a:lnTo>
                <a:lnTo>
                  <a:pt x="969" y="177"/>
                </a:lnTo>
                <a:lnTo>
                  <a:pt x="943" y="170"/>
                </a:lnTo>
                <a:lnTo>
                  <a:pt x="921" y="164"/>
                </a:lnTo>
                <a:lnTo>
                  <a:pt x="895" y="158"/>
                </a:lnTo>
                <a:lnTo>
                  <a:pt x="871" y="153"/>
                </a:lnTo>
                <a:lnTo>
                  <a:pt x="844" y="145"/>
                </a:lnTo>
                <a:lnTo>
                  <a:pt x="815" y="138"/>
                </a:lnTo>
                <a:lnTo>
                  <a:pt x="780" y="129"/>
                </a:lnTo>
                <a:lnTo>
                  <a:pt x="746" y="122"/>
                </a:lnTo>
                <a:lnTo>
                  <a:pt x="717" y="116"/>
                </a:lnTo>
                <a:lnTo>
                  <a:pt x="677" y="107"/>
                </a:lnTo>
                <a:lnTo>
                  <a:pt x="641" y="100"/>
                </a:lnTo>
                <a:lnTo>
                  <a:pt x="609" y="92"/>
                </a:lnTo>
                <a:lnTo>
                  <a:pt x="577" y="86"/>
                </a:lnTo>
                <a:lnTo>
                  <a:pt x="538" y="78"/>
                </a:lnTo>
                <a:lnTo>
                  <a:pt x="493" y="70"/>
                </a:lnTo>
                <a:lnTo>
                  <a:pt x="460" y="65"/>
                </a:lnTo>
                <a:lnTo>
                  <a:pt x="424" y="58"/>
                </a:lnTo>
                <a:lnTo>
                  <a:pt x="391" y="51"/>
                </a:lnTo>
                <a:lnTo>
                  <a:pt x="363" y="47"/>
                </a:lnTo>
                <a:lnTo>
                  <a:pt x="332" y="42"/>
                </a:lnTo>
                <a:lnTo>
                  <a:pt x="290" y="35"/>
                </a:lnTo>
                <a:lnTo>
                  <a:pt x="262" y="31"/>
                </a:lnTo>
                <a:lnTo>
                  <a:pt x="229" y="26"/>
                </a:lnTo>
                <a:lnTo>
                  <a:pt x="193" y="21"/>
                </a:lnTo>
                <a:lnTo>
                  <a:pt x="170" y="17"/>
                </a:lnTo>
                <a:lnTo>
                  <a:pt x="138" y="14"/>
                </a:lnTo>
                <a:lnTo>
                  <a:pt x="111" y="11"/>
                </a:lnTo>
                <a:lnTo>
                  <a:pt x="79" y="8"/>
                </a:lnTo>
                <a:lnTo>
                  <a:pt x="49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9"/>
          <p:cNvSpPr/>
          <p:nvPr/>
        </p:nvSpPr>
        <p:spPr>
          <a:xfrm rot="10800000">
            <a:off x="-360" y="5733720"/>
            <a:ext cx="8388360" cy="11239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1760" h="546">
                <a:moveTo>
                  <a:pt x="0" y="0"/>
                </a:moveTo>
                <a:lnTo>
                  <a:pt x="1760" y="1"/>
                </a:lnTo>
                <a:lnTo>
                  <a:pt x="1759" y="546"/>
                </a:lnTo>
                <a:lnTo>
                  <a:pt x="1746" y="536"/>
                </a:lnTo>
                <a:lnTo>
                  <a:pt x="1734" y="526"/>
                </a:lnTo>
                <a:lnTo>
                  <a:pt x="1718" y="512"/>
                </a:lnTo>
                <a:lnTo>
                  <a:pt x="1701" y="500"/>
                </a:lnTo>
                <a:lnTo>
                  <a:pt x="1684" y="489"/>
                </a:lnTo>
                <a:lnTo>
                  <a:pt x="1667" y="476"/>
                </a:lnTo>
                <a:lnTo>
                  <a:pt x="1648" y="464"/>
                </a:lnTo>
                <a:lnTo>
                  <a:pt x="1625" y="450"/>
                </a:lnTo>
                <a:lnTo>
                  <a:pt x="1611" y="440"/>
                </a:lnTo>
                <a:lnTo>
                  <a:pt x="1592" y="428"/>
                </a:lnTo>
                <a:lnTo>
                  <a:pt x="1564" y="412"/>
                </a:lnTo>
                <a:lnTo>
                  <a:pt x="1544" y="399"/>
                </a:lnTo>
                <a:lnTo>
                  <a:pt x="1518" y="386"/>
                </a:lnTo>
                <a:lnTo>
                  <a:pt x="1496" y="374"/>
                </a:lnTo>
                <a:lnTo>
                  <a:pt x="1472" y="361"/>
                </a:lnTo>
                <a:lnTo>
                  <a:pt x="1450" y="351"/>
                </a:lnTo>
                <a:lnTo>
                  <a:pt x="1429" y="339"/>
                </a:lnTo>
                <a:lnTo>
                  <a:pt x="1404" y="329"/>
                </a:lnTo>
                <a:lnTo>
                  <a:pt x="1387" y="322"/>
                </a:lnTo>
                <a:lnTo>
                  <a:pt x="1368" y="312"/>
                </a:lnTo>
                <a:lnTo>
                  <a:pt x="1350" y="305"/>
                </a:lnTo>
                <a:lnTo>
                  <a:pt x="1331" y="297"/>
                </a:lnTo>
                <a:lnTo>
                  <a:pt x="1307" y="287"/>
                </a:lnTo>
                <a:lnTo>
                  <a:pt x="1284" y="279"/>
                </a:lnTo>
                <a:lnTo>
                  <a:pt x="1262" y="270"/>
                </a:lnTo>
                <a:lnTo>
                  <a:pt x="1228" y="258"/>
                </a:lnTo>
                <a:lnTo>
                  <a:pt x="1193" y="246"/>
                </a:lnTo>
                <a:lnTo>
                  <a:pt x="1161" y="234"/>
                </a:lnTo>
                <a:lnTo>
                  <a:pt x="1130" y="224"/>
                </a:lnTo>
                <a:lnTo>
                  <a:pt x="1080" y="209"/>
                </a:lnTo>
                <a:lnTo>
                  <a:pt x="1059" y="202"/>
                </a:lnTo>
                <a:lnTo>
                  <a:pt x="1029" y="193"/>
                </a:lnTo>
                <a:lnTo>
                  <a:pt x="996" y="184"/>
                </a:lnTo>
                <a:lnTo>
                  <a:pt x="969" y="177"/>
                </a:lnTo>
                <a:lnTo>
                  <a:pt x="943" y="170"/>
                </a:lnTo>
                <a:lnTo>
                  <a:pt x="921" y="164"/>
                </a:lnTo>
                <a:lnTo>
                  <a:pt x="895" y="158"/>
                </a:lnTo>
                <a:lnTo>
                  <a:pt x="871" y="153"/>
                </a:lnTo>
                <a:lnTo>
                  <a:pt x="844" y="145"/>
                </a:lnTo>
                <a:lnTo>
                  <a:pt x="815" y="138"/>
                </a:lnTo>
                <a:lnTo>
                  <a:pt x="780" y="129"/>
                </a:lnTo>
                <a:lnTo>
                  <a:pt x="746" y="122"/>
                </a:lnTo>
                <a:lnTo>
                  <a:pt x="717" y="116"/>
                </a:lnTo>
                <a:lnTo>
                  <a:pt x="677" y="107"/>
                </a:lnTo>
                <a:lnTo>
                  <a:pt x="641" y="100"/>
                </a:lnTo>
                <a:lnTo>
                  <a:pt x="609" y="92"/>
                </a:lnTo>
                <a:lnTo>
                  <a:pt x="577" y="86"/>
                </a:lnTo>
                <a:lnTo>
                  <a:pt x="538" y="78"/>
                </a:lnTo>
                <a:lnTo>
                  <a:pt x="493" y="70"/>
                </a:lnTo>
                <a:lnTo>
                  <a:pt x="460" y="65"/>
                </a:lnTo>
                <a:lnTo>
                  <a:pt x="424" y="58"/>
                </a:lnTo>
                <a:lnTo>
                  <a:pt x="391" y="51"/>
                </a:lnTo>
                <a:lnTo>
                  <a:pt x="363" y="47"/>
                </a:lnTo>
                <a:lnTo>
                  <a:pt x="332" y="42"/>
                </a:lnTo>
                <a:lnTo>
                  <a:pt x="290" y="35"/>
                </a:lnTo>
                <a:lnTo>
                  <a:pt x="262" y="31"/>
                </a:lnTo>
                <a:lnTo>
                  <a:pt x="229" y="26"/>
                </a:lnTo>
                <a:lnTo>
                  <a:pt x="193" y="21"/>
                </a:lnTo>
                <a:lnTo>
                  <a:pt x="170" y="17"/>
                </a:lnTo>
                <a:lnTo>
                  <a:pt x="138" y="14"/>
                </a:lnTo>
                <a:lnTo>
                  <a:pt x="111" y="11"/>
                </a:lnTo>
                <a:lnTo>
                  <a:pt x="79" y="8"/>
                </a:lnTo>
                <a:lnTo>
                  <a:pt x="49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684000" y="141264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6491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4"/>
          <p:cNvSpPr/>
          <p:nvPr/>
        </p:nvSpPr>
        <p:spPr>
          <a:xfrm>
            <a:off x="539640" y="0"/>
            <a:ext cx="8604360" cy="1700280"/>
          </a:xfrm>
          <a:custGeom>
            <a:avLst/>
            <a:gdLst>
              <a:gd name="textAreaLeft" fmla="*/ 0 w 8604360"/>
              <a:gd name="textAreaRight" fmla="*/ 8604720 w 8604360"/>
              <a:gd name="textAreaTop" fmla="*/ 0 h 1700280"/>
              <a:gd name="textAreaBottom" fmla="*/ 1700640 h 1700280"/>
            </a:gdLst>
            <a:ahLst/>
            <a:rect l="textAreaLeft" t="textAreaTop" r="textAreaRight" b="textAreaBottom"/>
            <a:pathLst>
              <a:path w="1760" h="546">
                <a:moveTo>
                  <a:pt x="0" y="0"/>
                </a:moveTo>
                <a:lnTo>
                  <a:pt x="1760" y="1"/>
                </a:lnTo>
                <a:lnTo>
                  <a:pt x="1759" y="546"/>
                </a:lnTo>
                <a:lnTo>
                  <a:pt x="1746" y="536"/>
                </a:lnTo>
                <a:lnTo>
                  <a:pt x="1734" y="526"/>
                </a:lnTo>
                <a:lnTo>
                  <a:pt x="1718" y="512"/>
                </a:lnTo>
                <a:lnTo>
                  <a:pt x="1701" y="500"/>
                </a:lnTo>
                <a:lnTo>
                  <a:pt x="1684" y="489"/>
                </a:lnTo>
                <a:lnTo>
                  <a:pt x="1667" y="476"/>
                </a:lnTo>
                <a:lnTo>
                  <a:pt x="1648" y="464"/>
                </a:lnTo>
                <a:lnTo>
                  <a:pt x="1625" y="450"/>
                </a:lnTo>
                <a:lnTo>
                  <a:pt x="1611" y="440"/>
                </a:lnTo>
                <a:lnTo>
                  <a:pt x="1592" y="428"/>
                </a:lnTo>
                <a:lnTo>
                  <a:pt x="1564" y="412"/>
                </a:lnTo>
                <a:lnTo>
                  <a:pt x="1544" y="399"/>
                </a:lnTo>
                <a:lnTo>
                  <a:pt x="1518" y="386"/>
                </a:lnTo>
                <a:lnTo>
                  <a:pt x="1496" y="374"/>
                </a:lnTo>
                <a:lnTo>
                  <a:pt x="1472" y="361"/>
                </a:lnTo>
                <a:lnTo>
                  <a:pt x="1450" y="351"/>
                </a:lnTo>
                <a:lnTo>
                  <a:pt x="1429" y="339"/>
                </a:lnTo>
                <a:lnTo>
                  <a:pt x="1404" y="329"/>
                </a:lnTo>
                <a:lnTo>
                  <a:pt x="1387" y="322"/>
                </a:lnTo>
                <a:lnTo>
                  <a:pt x="1368" y="312"/>
                </a:lnTo>
                <a:lnTo>
                  <a:pt x="1350" y="305"/>
                </a:lnTo>
                <a:lnTo>
                  <a:pt x="1331" y="297"/>
                </a:lnTo>
                <a:lnTo>
                  <a:pt x="1307" y="287"/>
                </a:lnTo>
                <a:lnTo>
                  <a:pt x="1284" y="279"/>
                </a:lnTo>
                <a:lnTo>
                  <a:pt x="1262" y="270"/>
                </a:lnTo>
                <a:lnTo>
                  <a:pt x="1228" y="258"/>
                </a:lnTo>
                <a:lnTo>
                  <a:pt x="1193" y="246"/>
                </a:lnTo>
                <a:lnTo>
                  <a:pt x="1161" y="234"/>
                </a:lnTo>
                <a:lnTo>
                  <a:pt x="1130" y="224"/>
                </a:lnTo>
                <a:lnTo>
                  <a:pt x="1080" y="209"/>
                </a:lnTo>
                <a:lnTo>
                  <a:pt x="1059" y="202"/>
                </a:lnTo>
                <a:lnTo>
                  <a:pt x="1029" y="193"/>
                </a:lnTo>
                <a:lnTo>
                  <a:pt x="996" y="184"/>
                </a:lnTo>
                <a:lnTo>
                  <a:pt x="969" y="177"/>
                </a:lnTo>
                <a:lnTo>
                  <a:pt x="943" y="170"/>
                </a:lnTo>
                <a:lnTo>
                  <a:pt x="921" y="164"/>
                </a:lnTo>
                <a:lnTo>
                  <a:pt x="895" y="158"/>
                </a:lnTo>
                <a:lnTo>
                  <a:pt x="871" y="153"/>
                </a:lnTo>
                <a:lnTo>
                  <a:pt x="844" y="145"/>
                </a:lnTo>
                <a:lnTo>
                  <a:pt x="815" y="138"/>
                </a:lnTo>
                <a:lnTo>
                  <a:pt x="780" y="129"/>
                </a:lnTo>
                <a:lnTo>
                  <a:pt x="746" y="122"/>
                </a:lnTo>
                <a:lnTo>
                  <a:pt x="717" y="116"/>
                </a:lnTo>
                <a:lnTo>
                  <a:pt x="677" y="107"/>
                </a:lnTo>
                <a:lnTo>
                  <a:pt x="641" y="100"/>
                </a:lnTo>
                <a:lnTo>
                  <a:pt x="609" y="92"/>
                </a:lnTo>
                <a:lnTo>
                  <a:pt x="577" y="86"/>
                </a:lnTo>
                <a:lnTo>
                  <a:pt x="538" y="78"/>
                </a:lnTo>
                <a:lnTo>
                  <a:pt x="493" y="70"/>
                </a:lnTo>
                <a:lnTo>
                  <a:pt x="460" y="65"/>
                </a:lnTo>
                <a:lnTo>
                  <a:pt x="424" y="58"/>
                </a:lnTo>
                <a:lnTo>
                  <a:pt x="391" y="51"/>
                </a:lnTo>
                <a:lnTo>
                  <a:pt x="363" y="47"/>
                </a:lnTo>
                <a:lnTo>
                  <a:pt x="332" y="42"/>
                </a:lnTo>
                <a:lnTo>
                  <a:pt x="290" y="35"/>
                </a:lnTo>
                <a:lnTo>
                  <a:pt x="262" y="31"/>
                </a:lnTo>
                <a:lnTo>
                  <a:pt x="229" y="26"/>
                </a:lnTo>
                <a:lnTo>
                  <a:pt x="193" y="21"/>
                </a:lnTo>
                <a:lnTo>
                  <a:pt x="170" y="17"/>
                </a:lnTo>
                <a:lnTo>
                  <a:pt x="138" y="14"/>
                </a:lnTo>
                <a:lnTo>
                  <a:pt x="111" y="11"/>
                </a:lnTo>
                <a:lnTo>
                  <a:pt x="79" y="8"/>
                </a:lnTo>
                <a:lnTo>
                  <a:pt x="49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5"/>
          <p:cNvSpPr/>
          <p:nvPr/>
        </p:nvSpPr>
        <p:spPr>
          <a:xfrm rot="10800000">
            <a:off x="2773440" y="-360"/>
            <a:ext cx="6370560" cy="1413000"/>
          </a:xfrm>
          <a:custGeom>
            <a:avLst/>
            <a:gdLst>
              <a:gd name="textAreaLeft" fmla="*/ 0 w 6370560"/>
              <a:gd name="textAreaRight" fmla="*/ 6370920 w 6370560"/>
              <a:gd name="textAreaTop" fmla="*/ 0 h 1413000"/>
              <a:gd name="textAreaBottom" fmla="*/ 1413360 h 1413000"/>
            </a:gdLst>
            <a:ahLst/>
            <a:rect l="textAreaLeft" t="textAreaTop" r="textAreaRight" b="textAreaBottom"/>
            <a:pathLst>
              <a:path w="1760" h="546">
                <a:moveTo>
                  <a:pt x="1760" y="546"/>
                </a:moveTo>
                <a:lnTo>
                  <a:pt x="0" y="545"/>
                </a:lnTo>
                <a:lnTo>
                  <a:pt x="1" y="0"/>
                </a:lnTo>
                <a:lnTo>
                  <a:pt x="14" y="10"/>
                </a:lnTo>
                <a:lnTo>
                  <a:pt x="27" y="19"/>
                </a:lnTo>
                <a:lnTo>
                  <a:pt x="42" y="34"/>
                </a:lnTo>
                <a:lnTo>
                  <a:pt x="60" y="46"/>
                </a:lnTo>
                <a:lnTo>
                  <a:pt x="76" y="57"/>
                </a:lnTo>
                <a:lnTo>
                  <a:pt x="93" y="70"/>
                </a:lnTo>
                <a:lnTo>
                  <a:pt x="112" y="82"/>
                </a:lnTo>
                <a:lnTo>
                  <a:pt x="135" y="96"/>
                </a:lnTo>
                <a:lnTo>
                  <a:pt x="150" y="106"/>
                </a:lnTo>
                <a:lnTo>
                  <a:pt x="168" y="118"/>
                </a:lnTo>
                <a:lnTo>
                  <a:pt x="196" y="135"/>
                </a:lnTo>
                <a:lnTo>
                  <a:pt x="216" y="147"/>
                </a:lnTo>
                <a:lnTo>
                  <a:pt x="242" y="161"/>
                </a:lnTo>
                <a:lnTo>
                  <a:pt x="264" y="172"/>
                </a:lnTo>
                <a:lnTo>
                  <a:pt x="288" y="185"/>
                </a:lnTo>
                <a:lnTo>
                  <a:pt x="310" y="196"/>
                </a:lnTo>
                <a:lnTo>
                  <a:pt x="331" y="207"/>
                </a:lnTo>
                <a:lnTo>
                  <a:pt x="357" y="217"/>
                </a:lnTo>
                <a:lnTo>
                  <a:pt x="374" y="224"/>
                </a:lnTo>
                <a:lnTo>
                  <a:pt x="393" y="234"/>
                </a:lnTo>
                <a:lnTo>
                  <a:pt x="410" y="241"/>
                </a:lnTo>
                <a:lnTo>
                  <a:pt x="430" y="249"/>
                </a:lnTo>
                <a:lnTo>
                  <a:pt x="453" y="259"/>
                </a:lnTo>
                <a:lnTo>
                  <a:pt x="476" y="267"/>
                </a:lnTo>
                <a:lnTo>
                  <a:pt x="498" y="276"/>
                </a:lnTo>
                <a:lnTo>
                  <a:pt x="532" y="288"/>
                </a:lnTo>
                <a:lnTo>
                  <a:pt x="567" y="300"/>
                </a:lnTo>
                <a:lnTo>
                  <a:pt x="599" y="312"/>
                </a:lnTo>
                <a:lnTo>
                  <a:pt x="630" y="322"/>
                </a:lnTo>
                <a:lnTo>
                  <a:pt x="681" y="337"/>
                </a:lnTo>
                <a:lnTo>
                  <a:pt x="702" y="344"/>
                </a:lnTo>
                <a:lnTo>
                  <a:pt x="732" y="353"/>
                </a:lnTo>
                <a:lnTo>
                  <a:pt x="764" y="362"/>
                </a:lnTo>
                <a:lnTo>
                  <a:pt x="791" y="369"/>
                </a:lnTo>
                <a:lnTo>
                  <a:pt x="818" y="376"/>
                </a:lnTo>
                <a:lnTo>
                  <a:pt x="840" y="381"/>
                </a:lnTo>
                <a:lnTo>
                  <a:pt x="865" y="388"/>
                </a:lnTo>
                <a:lnTo>
                  <a:pt x="889" y="394"/>
                </a:lnTo>
                <a:lnTo>
                  <a:pt x="916" y="400"/>
                </a:lnTo>
                <a:lnTo>
                  <a:pt x="946" y="408"/>
                </a:lnTo>
                <a:lnTo>
                  <a:pt x="980" y="417"/>
                </a:lnTo>
                <a:lnTo>
                  <a:pt x="1014" y="424"/>
                </a:lnTo>
                <a:lnTo>
                  <a:pt x="1043" y="430"/>
                </a:lnTo>
                <a:lnTo>
                  <a:pt x="1084" y="438"/>
                </a:lnTo>
                <a:lnTo>
                  <a:pt x="1120" y="446"/>
                </a:lnTo>
                <a:lnTo>
                  <a:pt x="1151" y="454"/>
                </a:lnTo>
                <a:lnTo>
                  <a:pt x="1183" y="460"/>
                </a:lnTo>
                <a:lnTo>
                  <a:pt x="1222" y="468"/>
                </a:lnTo>
                <a:lnTo>
                  <a:pt x="1268" y="477"/>
                </a:lnTo>
                <a:lnTo>
                  <a:pt x="1300" y="481"/>
                </a:lnTo>
                <a:lnTo>
                  <a:pt x="1336" y="488"/>
                </a:lnTo>
                <a:lnTo>
                  <a:pt x="1370" y="495"/>
                </a:lnTo>
                <a:lnTo>
                  <a:pt x="1397" y="499"/>
                </a:lnTo>
                <a:lnTo>
                  <a:pt x="1429" y="504"/>
                </a:lnTo>
                <a:lnTo>
                  <a:pt x="1470" y="511"/>
                </a:lnTo>
                <a:lnTo>
                  <a:pt x="1499" y="515"/>
                </a:lnTo>
                <a:lnTo>
                  <a:pt x="1531" y="520"/>
                </a:lnTo>
                <a:lnTo>
                  <a:pt x="1567" y="525"/>
                </a:lnTo>
                <a:lnTo>
                  <a:pt x="1591" y="528"/>
                </a:lnTo>
                <a:lnTo>
                  <a:pt x="1622" y="532"/>
                </a:lnTo>
                <a:lnTo>
                  <a:pt x="1649" y="535"/>
                </a:lnTo>
                <a:lnTo>
                  <a:pt x="1681" y="538"/>
                </a:lnTo>
                <a:lnTo>
                  <a:pt x="1711" y="542"/>
                </a:lnTo>
                <a:lnTo>
                  <a:pt x="1760" y="546"/>
                </a:lnTo>
                <a:lnTo>
                  <a:pt x="1760" y="546"/>
                </a:lnTo>
                <a:close/>
              </a:path>
            </a:pathLst>
          </a:custGeom>
          <a:solidFill>
            <a:srgbClr val="00b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5364000" y="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yong Shire Counc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flower"/>
          <p:cNvPicPr/>
          <p:nvPr/>
        </p:nvPicPr>
        <p:blipFill>
          <a:blip r:embed="rId4"/>
          <a:stretch/>
        </p:blipFill>
        <p:spPr>
          <a:xfrm>
            <a:off x="8242200" y="0"/>
            <a:ext cx="901800" cy="907920"/>
          </a:xfrm>
          <a:prstGeom prst="rect">
            <a:avLst/>
          </a:prstGeom>
          <a:ln w="0">
            <a:noFill/>
          </a:ln>
        </p:spPr>
      </p:pic>
      <p:sp>
        <p:nvSpPr>
          <p:cNvPr id="54" name="Freeform 8"/>
          <p:cNvSpPr/>
          <p:nvPr/>
        </p:nvSpPr>
        <p:spPr>
          <a:xfrm rot="10800000">
            <a:off x="0" y="5300280"/>
            <a:ext cx="9144000" cy="155736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57360"/>
              <a:gd name="textAreaBottom" fmla="*/ 1557720 h 1557360"/>
            </a:gdLst>
            <a:ahLst/>
            <a:rect l="textAreaLeft" t="textAreaTop" r="textAreaRight" b="textAreaBottom"/>
            <a:pathLst>
              <a:path w="1760" h="546">
                <a:moveTo>
                  <a:pt x="0" y="0"/>
                </a:moveTo>
                <a:lnTo>
                  <a:pt x="1760" y="1"/>
                </a:lnTo>
                <a:lnTo>
                  <a:pt x="1759" y="546"/>
                </a:lnTo>
                <a:lnTo>
                  <a:pt x="1746" y="536"/>
                </a:lnTo>
                <a:lnTo>
                  <a:pt x="1734" y="526"/>
                </a:lnTo>
                <a:lnTo>
                  <a:pt x="1718" y="512"/>
                </a:lnTo>
                <a:lnTo>
                  <a:pt x="1701" y="500"/>
                </a:lnTo>
                <a:lnTo>
                  <a:pt x="1684" y="489"/>
                </a:lnTo>
                <a:lnTo>
                  <a:pt x="1667" y="476"/>
                </a:lnTo>
                <a:lnTo>
                  <a:pt x="1648" y="464"/>
                </a:lnTo>
                <a:lnTo>
                  <a:pt x="1625" y="450"/>
                </a:lnTo>
                <a:lnTo>
                  <a:pt x="1611" y="440"/>
                </a:lnTo>
                <a:lnTo>
                  <a:pt x="1592" y="428"/>
                </a:lnTo>
                <a:lnTo>
                  <a:pt x="1564" y="412"/>
                </a:lnTo>
                <a:lnTo>
                  <a:pt x="1544" y="399"/>
                </a:lnTo>
                <a:lnTo>
                  <a:pt x="1518" y="386"/>
                </a:lnTo>
                <a:lnTo>
                  <a:pt x="1496" y="374"/>
                </a:lnTo>
                <a:lnTo>
                  <a:pt x="1472" y="361"/>
                </a:lnTo>
                <a:lnTo>
                  <a:pt x="1450" y="351"/>
                </a:lnTo>
                <a:lnTo>
                  <a:pt x="1429" y="339"/>
                </a:lnTo>
                <a:lnTo>
                  <a:pt x="1404" y="329"/>
                </a:lnTo>
                <a:lnTo>
                  <a:pt x="1387" y="322"/>
                </a:lnTo>
                <a:lnTo>
                  <a:pt x="1368" y="312"/>
                </a:lnTo>
                <a:lnTo>
                  <a:pt x="1350" y="305"/>
                </a:lnTo>
                <a:lnTo>
                  <a:pt x="1331" y="297"/>
                </a:lnTo>
                <a:lnTo>
                  <a:pt x="1307" y="287"/>
                </a:lnTo>
                <a:lnTo>
                  <a:pt x="1284" y="279"/>
                </a:lnTo>
                <a:lnTo>
                  <a:pt x="1262" y="270"/>
                </a:lnTo>
                <a:lnTo>
                  <a:pt x="1228" y="258"/>
                </a:lnTo>
                <a:lnTo>
                  <a:pt x="1193" y="246"/>
                </a:lnTo>
                <a:lnTo>
                  <a:pt x="1161" y="234"/>
                </a:lnTo>
                <a:lnTo>
                  <a:pt x="1130" y="224"/>
                </a:lnTo>
                <a:lnTo>
                  <a:pt x="1080" y="209"/>
                </a:lnTo>
                <a:lnTo>
                  <a:pt x="1059" y="202"/>
                </a:lnTo>
                <a:lnTo>
                  <a:pt x="1029" y="193"/>
                </a:lnTo>
                <a:lnTo>
                  <a:pt x="996" y="184"/>
                </a:lnTo>
                <a:lnTo>
                  <a:pt x="969" y="177"/>
                </a:lnTo>
                <a:lnTo>
                  <a:pt x="943" y="170"/>
                </a:lnTo>
                <a:lnTo>
                  <a:pt x="921" y="164"/>
                </a:lnTo>
                <a:lnTo>
                  <a:pt x="895" y="158"/>
                </a:lnTo>
                <a:lnTo>
                  <a:pt x="871" y="153"/>
                </a:lnTo>
                <a:lnTo>
                  <a:pt x="844" y="145"/>
                </a:lnTo>
                <a:lnTo>
                  <a:pt x="815" y="138"/>
                </a:lnTo>
                <a:lnTo>
                  <a:pt x="780" y="129"/>
                </a:lnTo>
                <a:lnTo>
                  <a:pt x="746" y="122"/>
                </a:lnTo>
                <a:lnTo>
                  <a:pt x="717" y="116"/>
                </a:lnTo>
                <a:lnTo>
                  <a:pt x="677" y="107"/>
                </a:lnTo>
                <a:lnTo>
                  <a:pt x="641" y="100"/>
                </a:lnTo>
                <a:lnTo>
                  <a:pt x="609" y="92"/>
                </a:lnTo>
                <a:lnTo>
                  <a:pt x="577" y="86"/>
                </a:lnTo>
                <a:lnTo>
                  <a:pt x="538" y="78"/>
                </a:lnTo>
                <a:lnTo>
                  <a:pt x="493" y="70"/>
                </a:lnTo>
                <a:lnTo>
                  <a:pt x="460" y="65"/>
                </a:lnTo>
                <a:lnTo>
                  <a:pt x="424" y="58"/>
                </a:lnTo>
                <a:lnTo>
                  <a:pt x="391" y="51"/>
                </a:lnTo>
                <a:lnTo>
                  <a:pt x="363" y="47"/>
                </a:lnTo>
                <a:lnTo>
                  <a:pt x="332" y="42"/>
                </a:lnTo>
                <a:lnTo>
                  <a:pt x="290" y="35"/>
                </a:lnTo>
                <a:lnTo>
                  <a:pt x="262" y="31"/>
                </a:lnTo>
                <a:lnTo>
                  <a:pt x="229" y="26"/>
                </a:lnTo>
                <a:lnTo>
                  <a:pt x="193" y="21"/>
                </a:lnTo>
                <a:lnTo>
                  <a:pt x="170" y="17"/>
                </a:lnTo>
                <a:lnTo>
                  <a:pt x="138" y="14"/>
                </a:lnTo>
                <a:lnTo>
                  <a:pt x="111" y="11"/>
                </a:lnTo>
                <a:lnTo>
                  <a:pt x="79" y="8"/>
                </a:lnTo>
                <a:lnTo>
                  <a:pt x="49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9"/>
          <p:cNvSpPr/>
          <p:nvPr/>
        </p:nvSpPr>
        <p:spPr>
          <a:xfrm rot="10800000">
            <a:off x="-360" y="5733720"/>
            <a:ext cx="8388360" cy="11239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1760" h="546">
                <a:moveTo>
                  <a:pt x="0" y="0"/>
                </a:moveTo>
                <a:lnTo>
                  <a:pt x="1760" y="1"/>
                </a:lnTo>
                <a:lnTo>
                  <a:pt x="1759" y="546"/>
                </a:lnTo>
                <a:lnTo>
                  <a:pt x="1746" y="536"/>
                </a:lnTo>
                <a:lnTo>
                  <a:pt x="1734" y="526"/>
                </a:lnTo>
                <a:lnTo>
                  <a:pt x="1718" y="512"/>
                </a:lnTo>
                <a:lnTo>
                  <a:pt x="1701" y="500"/>
                </a:lnTo>
                <a:lnTo>
                  <a:pt x="1684" y="489"/>
                </a:lnTo>
                <a:lnTo>
                  <a:pt x="1667" y="476"/>
                </a:lnTo>
                <a:lnTo>
                  <a:pt x="1648" y="464"/>
                </a:lnTo>
                <a:lnTo>
                  <a:pt x="1625" y="450"/>
                </a:lnTo>
                <a:lnTo>
                  <a:pt x="1611" y="440"/>
                </a:lnTo>
                <a:lnTo>
                  <a:pt x="1592" y="428"/>
                </a:lnTo>
                <a:lnTo>
                  <a:pt x="1564" y="412"/>
                </a:lnTo>
                <a:lnTo>
                  <a:pt x="1544" y="399"/>
                </a:lnTo>
                <a:lnTo>
                  <a:pt x="1518" y="386"/>
                </a:lnTo>
                <a:lnTo>
                  <a:pt x="1496" y="374"/>
                </a:lnTo>
                <a:lnTo>
                  <a:pt x="1472" y="361"/>
                </a:lnTo>
                <a:lnTo>
                  <a:pt x="1450" y="351"/>
                </a:lnTo>
                <a:lnTo>
                  <a:pt x="1429" y="339"/>
                </a:lnTo>
                <a:lnTo>
                  <a:pt x="1404" y="329"/>
                </a:lnTo>
                <a:lnTo>
                  <a:pt x="1387" y="322"/>
                </a:lnTo>
                <a:lnTo>
                  <a:pt x="1368" y="312"/>
                </a:lnTo>
                <a:lnTo>
                  <a:pt x="1350" y="305"/>
                </a:lnTo>
                <a:lnTo>
                  <a:pt x="1331" y="297"/>
                </a:lnTo>
                <a:lnTo>
                  <a:pt x="1307" y="287"/>
                </a:lnTo>
                <a:lnTo>
                  <a:pt x="1284" y="279"/>
                </a:lnTo>
                <a:lnTo>
                  <a:pt x="1262" y="270"/>
                </a:lnTo>
                <a:lnTo>
                  <a:pt x="1228" y="258"/>
                </a:lnTo>
                <a:lnTo>
                  <a:pt x="1193" y="246"/>
                </a:lnTo>
                <a:lnTo>
                  <a:pt x="1161" y="234"/>
                </a:lnTo>
                <a:lnTo>
                  <a:pt x="1130" y="224"/>
                </a:lnTo>
                <a:lnTo>
                  <a:pt x="1080" y="209"/>
                </a:lnTo>
                <a:lnTo>
                  <a:pt x="1059" y="202"/>
                </a:lnTo>
                <a:lnTo>
                  <a:pt x="1029" y="193"/>
                </a:lnTo>
                <a:lnTo>
                  <a:pt x="996" y="184"/>
                </a:lnTo>
                <a:lnTo>
                  <a:pt x="969" y="177"/>
                </a:lnTo>
                <a:lnTo>
                  <a:pt x="943" y="170"/>
                </a:lnTo>
                <a:lnTo>
                  <a:pt x="921" y="164"/>
                </a:lnTo>
                <a:lnTo>
                  <a:pt x="895" y="158"/>
                </a:lnTo>
                <a:lnTo>
                  <a:pt x="871" y="153"/>
                </a:lnTo>
                <a:lnTo>
                  <a:pt x="844" y="145"/>
                </a:lnTo>
                <a:lnTo>
                  <a:pt x="815" y="138"/>
                </a:lnTo>
                <a:lnTo>
                  <a:pt x="780" y="129"/>
                </a:lnTo>
                <a:lnTo>
                  <a:pt x="746" y="122"/>
                </a:lnTo>
                <a:lnTo>
                  <a:pt x="717" y="116"/>
                </a:lnTo>
                <a:lnTo>
                  <a:pt x="677" y="107"/>
                </a:lnTo>
                <a:lnTo>
                  <a:pt x="641" y="100"/>
                </a:lnTo>
                <a:lnTo>
                  <a:pt x="609" y="92"/>
                </a:lnTo>
                <a:lnTo>
                  <a:pt x="577" y="86"/>
                </a:lnTo>
                <a:lnTo>
                  <a:pt x="538" y="78"/>
                </a:lnTo>
                <a:lnTo>
                  <a:pt x="493" y="70"/>
                </a:lnTo>
                <a:lnTo>
                  <a:pt x="460" y="65"/>
                </a:lnTo>
                <a:lnTo>
                  <a:pt x="424" y="58"/>
                </a:lnTo>
                <a:lnTo>
                  <a:pt x="391" y="51"/>
                </a:lnTo>
                <a:lnTo>
                  <a:pt x="363" y="47"/>
                </a:lnTo>
                <a:lnTo>
                  <a:pt x="332" y="42"/>
                </a:lnTo>
                <a:lnTo>
                  <a:pt x="290" y="35"/>
                </a:lnTo>
                <a:lnTo>
                  <a:pt x="262" y="31"/>
                </a:lnTo>
                <a:lnTo>
                  <a:pt x="229" y="26"/>
                </a:lnTo>
                <a:lnTo>
                  <a:pt x="193" y="21"/>
                </a:lnTo>
                <a:lnTo>
                  <a:pt x="170" y="17"/>
                </a:lnTo>
                <a:lnTo>
                  <a:pt x="138" y="14"/>
                </a:lnTo>
                <a:lnTo>
                  <a:pt x="111" y="11"/>
                </a:lnTo>
                <a:lnTo>
                  <a:pt x="79" y="8"/>
                </a:lnTo>
                <a:lnTo>
                  <a:pt x="49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684000" y="141264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6491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3640" y="1989000"/>
            <a:ext cx="845964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Draft 2010-11 Management Plan </a:t>
            </a:r>
            <a:br>
              <a:rPr sz="3600"/>
            </a:b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OMMUNITY BRIEFING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29 April 2010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MMj02867250000[1]"/>
          <p:cNvPicPr/>
          <p:nvPr/>
        </p:nvPicPr>
        <p:blipFill>
          <a:blip r:embed="rId1"/>
          <a:stretch/>
        </p:blipFill>
        <p:spPr>
          <a:xfrm>
            <a:off x="179280" y="204840"/>
            <a:ext cx="19465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835280" y="537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ntegrated Plann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"/>
          <p:cNvSpPr/>
          <p:nvPr/>
        </p:nvSpPr>
        <p:spPr>
          <a:xfrm>
            <a:off x="3635280" y="549360"/>
            <a:ext cx="1800360" cy="115236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hi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"/>
          <p:cNvSpPr/>
          <p:nvPr/>
        </p:nvSpPr>
        <p:spPr>
          <a:xfrm>
            <a:off x="3564000" y="2133720"/>
            <a:ext cx="1800000" cy="115236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5"/>
          <p:cNvSpPr/>
          <p:nvPr/>
        </p:nvSpPr>
        <p:spPr>
          <a:xfrm>
            <a:off x="3635280" y="3716280"/>
            <a:ext cx="1800360" cy="115272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6"/>
          <p:cNvSpPr/>
          <p:nvPr/>
        </p:nvSpPr>
        <p:spPr>
          <a:xfrm>
            <a:off x="611280" y="907920"/>
            <a:ext cx="1800000" cy="115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ong-Te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7"/>
          <p:cNvSpPr/>
          <p:nvPr/>
        </p:nvSpPr>
        <p:spPr>
          <a:xfrm>
            <a:off x="611280" y="2205000"/>
            <a:ext cx="1800000" cy="115272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8"/>
          <p:cNvSpPr/>
          <p:nvPr/>
        </p:nvSpPr>
        <p:spPr>
          <a:xfrm>
            <a:off x="6588000" y="3789360"/>
            <a:ext cx="1800360" cy="115236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"/>
          <p:cNvSpPr/>
          <p:nvPr/>
        </p:nvSpPr>
        <p:spPr>
          <a:xfrm>
            <a:off x="611280" y="3500280"/>
            <a:ext cx="1800000" cy="115272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orkfor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2484360" y="1628640"/>
            <a:ext cx="107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>
            <a:off x="2484360" y="270828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 flipV="1">
            <a:off x="2556000" y="3068280"/>
            <a:ext cx="93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 flipH="1">
            <a:off x="450072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H="1">
            <a:off x="4500720" y="335772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5508720" y="4292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835280" y="537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ntegrated Plann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3"/>
          <p:cNvSpPr/>
          <p:nvPr/>
        </p:nvSpPr>
        <p:spPr>
          <a:xfrm>
            <a:off x="3635280" y="549360"/>
            <a:ext cx="1800360" cy="115236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hi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3564000" y="2133720"/>
            <a:ext cx="1800000" cy="115236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3635280" y="3716280"/>
            <a:ext cx="1800360" cy="115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611280" y="907920"/>
            <a:ext cx="1800000" cy="115272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ong-Te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7"/>
          <p:cNvSpPr/>
          <p:nvPr/>
        </p:nvSpPr>
        <p:spPr>
          <a:xfrm>
            <a:off x="611280" y="2205000"/>
            <a:ext cx="1800000" cy="115272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8"/>
          <p:cNvSpPr/>
          <p:nvPr/>
        </p:nvSpPr>
        <p:spPr>
          <a:xfrm>
            <a:off x="6588000" y="3789360"/>
            <a:ext cx="1800360" cy="115236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611280" y="3500280"/>
            <a:ext cx="1800000" cy="115272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orkfor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2484360" y="1628640"/>
            <a:ext cx="107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2484360" y="270828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V="1">
            <a:off x="2556000" y="3068280"/>
            <a:ext cx="93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 flipH="1">
            <a:off x="450072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 flipH="1">
            <a:off x="4500720" y="335772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5508720" y="4292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82803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2010-11 Management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0" y="1125360"/>
            <a:ext cx="8820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wo Volu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Volume 1 - Manage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Volume 2 - Revenue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Volum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ocus on implementing the Shire Strategic Vision (SS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86043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2010/11 Management Plan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-360" y="1125360"/>
            <a:ext cx="950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Planning for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hat we will do (under 5 Principal Activities)</a:t>
            </a:r>
            <a:r>
              <a:rPr b="1" lang="en-A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Resourcing</a:t>
            </a:r>
            <a:r>
              <a:rPr b="1" lang="en-A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74516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Key Focus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39280" y="1052640"/>
            <a:ext cx="8604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intenance of sports and recreation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ff"/>
                </a:solidFill>
                <a:latin typeface="Arial"/>
              </a:rPr>
              <a:t>Maintenance and upgrade of community 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mmunity programs and local neighbourhoo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ff"/>
                </a:solidFill>
                <a:latin typeface="Arial"/>
              </a:rPr>
              <a:t>Wyong Cultural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upport for the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Regional Economic Development &amp; Employment Strategy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(RE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ff"/>
                </a:solidFill>
                <a:latin typeface="Arial"/>
              </a:rPr>
              <a:t>National Broadband Network roll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stuary Management Pla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ff"/>
                </a:solidFill>
                <a:latin typeface="Arial"/>
              </a:rPr>
              <a:t>Mardi-Mangrove Link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79995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2010-11 Management Plan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Expendi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5"/>
          <p:cNvGraphicFramePr/>
          <p:nvPr/>
        </p:nvGraphicFramePr>
        <p:xfrm>
          <a:off x="1187280" y="1989000"/>
          <a:ext cx="7194600" cy="410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89000"/>
                    <a:ext cx="7194600" cy="41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79995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2010-11 Management Plan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Source of F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4"/>
          <p:cNvGraphicFramePr/>
          <p:nvPr/>
        </p:nvGraphicFramePr>
        <p:xfrm>
          <a:off x="611280" y="1916280"/>
          <a:ext cx="8008920" cy="41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16280"/>
                    <a:ext cx="800892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6732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2010-11 Management Plan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Financial Model Foreca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11280" y="1483920"/>
            <a:ext cx="8532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19280" y="1844640"/>
          <a:ext cx="6294240" cy="4176720"/>
        </p:xfrm>
        <a:graphic>
          <a:graphicData uri="http://schemas.openxmlformats.org/drawingml/2006/table">
            <a:tbl>
              <a:tblPr/>
              <a:tblGrid>
                <a:gridCol w="2297160"/>
                <a:gridCol w="1333440"/>
                <a:gridCol w="1332000"/>
                <a:gridCol w="1331640"/>
              </a:tblGrid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’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-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-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6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18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64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7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1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26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7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,2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,5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,15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sati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87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5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ub-Tota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76,6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5,9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40,69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of Fund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,5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,65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7,98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sul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3,343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2,71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1189440" y="404280"/>
            <a:ext cx="8604360" cy="13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2010-11 Management Plan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Rates &amp;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2560" y="2274480"/>
            <a:ext cx="846144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eneral Rates - Ratepegging of 2.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mestic Waste Management increased by inflation + rehabilitation + EPA Levy (8.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ater, Sewerage &amp; Drainage - I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60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ypical Residential Ratep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1280" y="1483920"/>
            <a:ext cx="8532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79280" y="765000"/>
          <a:ext cx="8964720" cy="6135840"/>
        </p:xfrm>
        <a:graphic>
          <a:graphicData uri="http://schemas.openxmlformats.org/drawingml/2006/table">
            <a:tbl>
              <a:tblPr/>
              <a:tblGrid>
                <a:gridCol w="2987640"/>
                <a:gridCol w="1892520"/>
                <a:gridCol w="1627200"/>
                <a:gridCol w="1341360"/>
                <a:gridCol w="1116000"/>
              </a:tblGrid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-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1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edian Valuatio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$157,0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$157,0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Rate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.7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6.0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2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Availabilit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.4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.7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2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4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werag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9.1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9.8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inage Servic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estic Was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.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8.5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3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ways Env’ l Lev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ub-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,642.6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,721.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8.6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.8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Usage </a:t>
                      </a: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1kL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.9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.0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,893.5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,986.3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2.7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.9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7993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Objective of Brief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00000" y="1483920"/>
            <a:ext cx="82440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To provide an overview of the Draft 2010-11 Management Plan that is currently on public exhib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757440" y="404640"/>
            <a:ext cx="777708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2010-11 Management Plan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Tim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250560" y="1125360"/>
            <a:ext cx="9288360" cy="64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 u="sng">
                <a:solidFill>
                  <a:srgbClr val="0000ff"/>
                </a:solidFill>
                <a:uFillTx/>
                <a:latin typeface="Arial"/>
              </a:rPr>
              <a:t>21 April – 19 May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– Exhib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 u="sng">
                <a:solidFill>
                  <a:srgbClr val="0000ff"/>
                </a:solidFill>
                <a:uFillTx/>
                <a:latin typeface="Arial"/>
              </a:rPr>
              <a:t>29 April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– Community Brief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 u="sng">
                <a:solidFill>
                  <a:srgbClr val="0000ff"/>
                </a:solidFill>
                <a:uFillTx/>
                <a:latin typeface="Arial"/>
              </a:rPr>
              <a:t>19 May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– Final day for submi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 u="sng">
                <a:solidFill>
                  <a:srgbClr val="0000ff"/>
                </a:solidFill>
                <a:uFillTx/>
                <a:latin typeface="Arial"/>
              </a:rPr>
              <a:t>26 May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– Council to adopt WSA Fees &amp;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 u="sng">
                <a:solidFill>
                  <a:srgbClr val="0000ff"/>
                </a:solidFill>
                <a:uFillTx/>
                <a:latin typeface="Arial"/>
              </a:rPr>
              <a:t>9 June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– Council to adopt Managemen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252360" y="549360"/>
            <a:ext cx="8113680" cy="14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2010-11 Management Plan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066320" y="2133720"/>
            <a:ext cx="74660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Questions on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Draft Management Plan?</a:t>
            </a: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7596360" y="5856120"/>
            <a:ext cx="126036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Thank you for your attendance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Have a good evening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Mj02867250000[1]"/>
          <p:cNvPicPr/>
          <p:nvPr/>
        </p:nvPicPr>
        <p:blipFill>
          <a:blip r:embed="rId1"/>
          <a:stretch/>
        </p:blipFill>
        <p:spPr>
          <a:xfrm>
            <a:off x="179280" y="204840"/>
            <a:ext cx="19465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6491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Communit_0"/>
          <p:cNvPicPr/>
          <p:nvPr/>
        </p:nvPicPr>
        <p:blipFill>
          <a:blip r:embed="rId1"/>
          <a:stretch/>
        </p:blipFill>
        <p:spPr>
          <a:xfrm>
            <a:off x="1979640" y="260280"/>
            <a:ext cx="5213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86043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2010/11 Fees &amp;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-360" y="1125360"/>
            <a:ext cx="950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hild Care – increase of $2 per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liday Parks – storage van increases between 6.2-9.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ipping Fees – increase of $26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Rezoning Fees: Phase 1, 2 and 3 increa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ertification Fees – various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Filming – remove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7993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2010-11 Management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11280" y="1125360"/>
            <a:ext cx="8532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Plann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inancial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Rates &amp;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Proposed Tim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ommunity Questions/Feedback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835280" y="537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ntegrated Plann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3635280" y="549360"/>
            <a:ext cx="1800360" cy="115236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hi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3564000" y="2133720"/>
            <a:ext cx="1800000" cy="115236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3635280" y="3716280"/>
            <a:ext cx="1800360" cy="115272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"/>
          <p:cNvSpPr/>
          <p:nvPr/>
        </p:nvSpPr>
        <p:spPr>
          <a:xfrm>
            <a:off x="611280" y="907920"/>
            <a:ext cx="1800000" cy="115272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ong-Te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7"/>
          <p:cNvSpPr/>
          <p:nvPr/>
        </p:nvSpPr>
        <p:spPr>
          <a:xfrm>
            <a:off x="611280" y="2205000"/>
            <a:ext cx="1800000" cy="115272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6588000" y="3789360"/>
            <a:ext cx="1800360" cy="115236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611280" y="3500280"/>
            <a:ext cx="1800000" cy="115272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orkfor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2484360" y="1628640"/>
            <a:ext cx="107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2484360" y="270828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 flipV="1">
            <a:off x="2556000" y="3068280"/>
            <a:ext cx="93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3"/>
          <p:cNvSpPr/>
          <p:nvPr/>
        </p:nvSpPr>
        <p:spPr>
          <a:xfrm flipH="1">
            <a:off x="450072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4"/>
          <p:cNvSpPr/>
          <p:nvPr/>
        </p:nvSpPr>
        <p:spPr>
          <a:xfrm flipH="1">
            <a:off x="4500720" y="335772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"/>
          <p:cNvSpPr/>
          <p:nvPr/>
        </p:nvSpPr>
        <p:spPr>
          <a:xfrm>
            <a:off x="5508720" y="4292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835280" y="537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ntegrated Plann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"/>
          <p:cNvSpPr/>
          <p:nvPr/>
        </p:nvSpPr>
        <p:spPr>
          <a:xfrm>
            <a:off x="3635280" y="549360"/>
            <a:ext cx="180036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hi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4"/>
          <p:cNvSpPr/>
          <p:nvPr/>
        </p:nvSpPr>
        <p:spPr>
          <a:xfrm>
            <a:off x="3564000" y="2133720"/>
            <a:ext cx="1800000" cy="115236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3635280" y="3716280"/>
            <a:ext cx="1800360" cy="115272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611280" y="907920"/>
            <a:ext cx="1800000" cy="115272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ong-Te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611280" y="2205000"/>
            <a:ext cx="1800000" cy="115272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6588000" y="3789360"/>
            <a:ext cx="1800360" cy="115236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611280" y="3500280"/>
            <a:ext cx="1800000" cy="115272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orkfor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2484360" y="1628640"/>
            <a:ext cx="107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2484360" y="270828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 flipV="1">
            <a:off x="2556000" y="3068280"/>
            <a:ext cx="93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 flipH="1">
            <a:off x="450072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 flipH="1">
            <a:off x="4500720" y="335772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5508720" y="4292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64911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Shire Strategic Vision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Priorit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80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ibrant, caring and connected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Arial"/>
              </a:rPr>
              <a:t>Ease of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mmunity access to facilitie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Arial"/>
              </a:rPr>
              <a:t>Educated, innovative and creativ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trong sustainable business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Arial"/>
              </a:rPr>
              <a:t>World’s best information communication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nhanced areas of natural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Arial"/>
              </a:rPr>
              <a:t>A sense of ownership of the natur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835280" y="537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ntegrated Plann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"/>
          <p:cNvSpPr/>
          <p:nvPr/>
        </p:nvSpPr>
        <p:spPr>
          <a:xfrm>
            <a:off x="3635280" y="549360"/>
            <a:ext cx="1800360" cy="115236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hi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"/>
          <p:cNvSpPr/>
          <p:nvPr/>
        </p:nvSpPr>
        <p:spPr>
          <a:xfrm>
            <a:off x="3564000" y="2133720"/>
            <a:ext cx="180000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635280" y="3716280"/>
            <a:ext cx="1800360" cy="115272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"/>
          <p:cNvSpPr/>
          <p:nvPr/>
        </p:nvSpPr>
        <p:spPr>
          <a:xfrm>
            <a:off x="611280" y="907920"/>
            <a:ext cx="1800000" cy="115272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ong-Te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611280" y="2205000"/>
            <a:ext cx="1800000" cy="115272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6588000" y="3789360"/>
            <a:ext cx="1800360" cy="115236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611280" y="3500280"/>
            <a:ext cx="1800000" cy="115272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orkfor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2484360" y="1628640"/>
            <a:ext cx="107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2484360" y="270828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 flipV="1">
            <a:off x="2556000" y="3068280"/>
            <a:ext cx="93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 flipH="1">
            <a:off x="450072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4"/>
          <p:cNvSpPr/>
          <p:nvPr/>
        </p:nvSpPr>
        <p:spPr>
          <a:xfrm flipH="1">
            <a:off x="4500720" y="335772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5"/>
          <p:cNvSpPr/>
          <p:nvPr/>
        </p:nvSpPr>
        <p:spPr>
          <a:xfrm>
            <a:off x="5508720" y="4292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835280" y="537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ntegrated Plann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"/>
          <p:cNvSpPr/>
          <p:nvPr/>
        </p:nvSpPr>
        <p:spPr>
          <a:xfrm>
            <a:off x="3635280" y="549360"/>
            <a:ext cx="1800360" cy="115236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hi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3564000" y="2133720"/>
            <a:ext cx="1800000" cy="115236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>
            <a:off x="3635280" y="3716280"/>
            <a:ext cx="1800360" cy="115272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6"/>
          <p:cNvSpPr/>
          <p:nvPr/>
        </p:nvSpPr>
        <p:spPr>
          <a:xfrm>
            <a:off x="611280" y="907920"/>
            <a:ext cx="1800000" cy="115272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ong-Te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7"/>
          <p:cNvSpPr/>
          <p:nvPr/>
        </p:nvSpPr>
        <p:spPr>
          <a:xfrm>
            <a:off x="611280" y="2205000"/>
            <a:ext cx="1800000" cy="115272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8"/>
          <p:cNvSpPr/>
          <p:nvPr/>
        </p:nvSpPr>
        <p:spPr>
          <a:xfrm>
            <a:off x="6588000" y="3789360"/>
            <a:ext cx="1800360" cy="115236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9"/>
          <p:cNvSpPr/>
          <p:nvPr/>
        </p:nvSpPr>
        <p:spPr>
          <a:xfrm>
            <a:off x="611280" y="3500280"/>
            <a:ext cx="1800000" cy="115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orkfor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2484360" y="1628640"/>
            <a:ext cx="107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2484360" y="270828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 flipV="1">
            <a:off x="2556000" y="3068280"/>
            <a:ext cx="93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 flipH="1">
            <a:off x="450072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 flipH="1">
            <a:off x="4500720" y="335772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"/>
          <p:cNvSpPr/>
          <p:nvPr/>
        </p:nvSpPr>
        <p:spPr>
          <a:xfrm>
            <a:off x="5508720" y="4292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835280" y="537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ntegrated Plann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3"/>
          <p:cNvSpPr/>
          <p:nvPr/>
        </p:nvSpPr>
        <p:spPr>
          <a:xfrm>
            <a:off x="3635280" y="549360"/>
            <a:ext cx="1800360" cy="115236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hi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3564000" y="2133720"/>
            <a:ext cx="1800000" cy="115236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5"/>
          <p:cNvSpPr/>
          <p:nvPr/>
        </p:nvSpPr>
        <p:spPr>
          <a:xfrm>
            <a:off x="3635280" y="3716280"/>
            <a:ext cx="1800360" cy="115272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6"/>
          <p:cNvSpPr/>
          <p:nvPr/>
        </p:nvSpPr>
        <p:spPr>
          <a:xfrm>
            <a:off x="611280" y="907920"/>
            <a:ext cx="1800000" cy="115272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ong-Te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611280" y="2205000"/>
            <a:ext cx="1800000" cy="115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6588000" y="3789360"/>
            <a:ext cx="1800360" cy="115236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611280" y="3500280"/>
            <a:ext cx="1800000" cy="1152720"/>
          </a:xfrm>
          <a:prstGeom prst="ellipse">
            <a:avLst/>
          </a:prstGeom>
          <a:solidFill>
            <a:srgbClr val="00b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orkfor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2484360" y="1628640"/>
            <a:ext cx="107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2484360" y="270828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 flipV="1">
            <a:off x="2556000" y="3068280"/>
            <a:ext cx="93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 flipH="1">
            <a:off x="450072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 flipH="1">
            <a:off x="4500720" y="335772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508720" y="4292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23:53:17Z</dcterms:created>
  <dc:creator>hschwartz</dc:creator>
  <dc:description/>
  <dc:language>en-US</dc:language>
  <cp:lastModifiedBy>Doug</cp:lastModifiedBy>
  <dcterms:modified xsi:type="dcterms:W3CDTF">2010-06-13T09:39:43Z</dcterms:modified>
  <cp:revision>145</cp:revision>
  <dc:subject/>
  <dc:title>Slide 1</dc:title>
</cp:coreProperties>
</file>